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D1C-2AB3-4AAC-B063-5AB2774B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4EA-0F76-4513-9539-91771E4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8A8-C678-44A5-8BA8-8B75C79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2E0-8E18-46B8-BCA9-771CCA7A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9EF-7814-4AAB-9C9E-8C0DA81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AB6-34BA-480D-A765-C1FFF165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2A8-DCA2-46A7-9884-5491A3EB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41B-05D0-4740-9CC3-25DD42BE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63D-55B6-4485-AD2E-5620655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240-5B03-469C-9709-7264B57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650-3F9F-45D2-86BE-5AC8979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892-4CFE-436D-8BCD-63943E7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A68-9FF7-4131-B78D-E07E2B56F4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РАЗРЯДЫ МЕСТОИМЕН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Автор: Кукушкина Е.А., студентка 4 курса филологического факультета КГП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010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Основной вопрос нашего проект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изучается Морфолог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2.jpg"/>
          <p:cNvPicPr/>
          <p:nvPr/>
        </p:nvPicPr>
        <p:blipFill>
          <a:blip r:embed="rId1"/>
          <a:stretch/>
        </p:blipFill>
        <p:spPr>
          <a:xfrm>
            <a:off x="1752480" y="3276720"/>
            <a:ext cx="56390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опросы, ответы на которые мы будем иск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местоимения делятся на разря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бывают разряды местоим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азряды местоим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одно местоимение выступать в разных разряд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дставление результатов       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б – с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кл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 докла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ределение по группа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762120"/>
                <a:gridCol w="4038480"/>
                <a:gridCol w="342900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из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имение как ча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, притяжательные, возврат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ые, вопросительные, определитель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азательные, отрицательные, неопределен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Продолжительность проек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не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урока по 45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aac9ec9b5997.jpg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Этапы проведения проек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Выбор и формулировка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Поиск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Самостоятельная  работа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Защита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Информационные ресурс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очник школьника. Русский язык. Под ред. В. Славкина – М., 199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й язык: Учебник для 6 класса общеобразовательных учреждений/ Т.А. Ладыженская, М.Т.Баранов и др. 33 изд-е  - М., 2005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1760" y="144756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Удач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и   творческих             успехов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17T14:34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